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9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90E-FEC6-4D11-8FAF-8CA4AB30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E48-C3BD-49C7-AF3B-99FD553C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65B-4D4C-40B8-BD1B-8AB76B04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D1F-734D-419E-A70B-A159EDD66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D8052-D85D-4D57-BF21-83317EE5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F975F-910D-4DD1-A89A-EBBA41B1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73945-EF90-435A-93A2-2339B7AB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3781D-4DBB-4858-A38F-1221F4E7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F7648-6683-48A2-B8AB-492769F2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80ABA-10A8-48F2-80A8-2E8BB417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A2424-B1BE-41E7-9C51-7A820A4B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43AC-6759-4B3A-8ABA-2A11F434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BB951-0D0D-4C57-86AB-E95265A7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97722-6336-401A-BEA5-55FC0F6B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A6B7E-2FF6-439D-B64B-7AB312D5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12C98-0264-4D6C-BC14-91EEDD70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6D3A1-B834-49BA-827D-817BFF13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1E6FF-61CE-4DFB-900F-BEA899B25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3AC81-2D3D-46AF-9C05-11A2CA61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BDE1D-3FB5-448C-B7C2-E99E7DC8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E930-815B-4BFD-976C-2BFA17CF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FA63B-ED2D-49BC-83E5-57F69EC6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E21-3E65-4BB5-A31D-5E526A68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FB420-98E8-4EE2-911E-D3B9624E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A5C4-FD3D-4617-B026-8998F29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D8E2A-DF72-436F-84D9-312691B6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32616-1784-48D4-9F6A-F45E9C22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D3B8E-2AE5-42E0-B7C0-BB157270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DD86-E151-4151-96EC-DD0AEA350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50EB7-3551-416E-824B-01B96618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AACDDA-2EB5-4766-9E27-FD96950B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CEAAA3-322F-45D4-8B4C-C17D3428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073952-F12D-4AB5-A7D5-3EA9DD9D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9440-E911-4648-AF1B-6F0001C6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74C168-E74D-41E3-9C24-10E3F80E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1BBEF-D74A-4ABA-90CB-DC72D720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E9574B-5102-481A-95B4-F065B0F8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F2F209-5F86-4EDE-9164-942348BE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20FC82-6215-4A3F-A73B-2495C48B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6D8F08-EF4F-4635-938F-FE989D1C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392676-5B6C-456F-9789-218C5192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24A891-2E1B-4FBF-A867-6C1957523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C0ACD6-4383-41BB-90A1-31ADAB55C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FF0C-AD83-405A-946D-4C676785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3A1-DC73-4203-913D-934B22E2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0EF-DDF5-4B09-B959-7794CF5A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99AE-49DB-40B7-AB96-BFCFA80C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10E6-ED95-47BF-8795-1B5C5D5F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989B-2659-4393-B633-14BC30F7D7EC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cea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cea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dd8047"/>
          </a:solidFill>
          <a:ln w="38160">
            <a:solidFill>
              <a:srgbClr val="dd80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0FD5-991D-40D6-9FAE-9571E60499CA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4BD4-6D08-49CF-8F93-87550313BEB7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cea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cea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a25c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c27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C292-A95A-4D03-9573-168B422E0C2E}" type="slidenum">
              <a:rPr b="0" lang="en-US" sz="1600" spc="-1" strike="noStrike">
                <a:solidFill>
                  <a:srgbClr val="ebddc3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bddc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ddc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ncientgreece.com/s/Wars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axosaudiobooks.com/northamerica/308412.htm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socialstudiesforkids.com/subjects/persianwars.htm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link.history.com/services/link/bcpid1681730307/bclid1683701822/bctid1646107670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sitement.neh.gov/Persian01_flash_page.asp" TargetMode="External"/><Relationship Id="rId2" Type="http://schemas.openxmlformats.org/officeDocument/2006/relationships/hyperlink" Target="http://edsitement.neh.gov/PersiaGreeceWars01.asp#Hellespont" TargetMode="External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sitement.neh.gov/PersianBridge_flash_page.asp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www.usu.edu/markdamen/1320Hist&amp;Civ/slides/02herod/boatbridge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usu.edu/markdamen/1320Hist&amp;Civ/slides/02herod/trireme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ncientgreece.com/s/Wars/" TargetMode="External"/><Relationship Id="rId3" Type="http://schemas.openxmlformats.org/officeDocument/2006/relationships/hyperlink" Target="http://www.naxosaudiobooks.com/northamerica/308412.ht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bddc3"/>
                </a:solidFill>
                <a:latin typeface="Constantia"/>
              </a:rPr>
              <a:t>490 BC – 480 BC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150 - 700 BC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reece expanded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cross the Aegean Sea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 499 BC, th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onian Revolt began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hich led to th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rsian Wa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 to </a:t>
            </a:r>
            <a:r>
              <a:rPr b="0" lang="en-US" sz="2600" spc="-1" strike="noStrike" u="sng">
                <a:solidFill>
                  <a:srgbClr val="f7b615"/>
                </a:solidFill>
                <a:uFillTx/>
                <a:latin typeface="Constantia"/>
                <a:hlinkClick r:id="rId1"/>
              </a:rPr>
              <a:t>http://www.ancientgreece.com/s/Wars/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o read about the Ionian Revol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www.mnsu.edu/emuseum/prehistory/aegean/images/so_many_images/greekimmigration.jpg"/>
          <p:cNvPicPr/>
          <p:nvPr/>
        </p:nvPicPr>
        <p:blipFill>
          <a:blip r:embed="rId3"/>
          <a:stretch/>
        </p:blipFill>
        <p:spPr>
          <a:xfrm>
            <a:off x="3962520" y="1219320"/>
            <a:ext cx="4848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first story in European history is Herodotus’ description of the Persian Wars in “The Histories.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Listen to the audio sample of the Persian War by Herodotus at </a:t>
            </a:r>
            <a:r>
              <a:rPr b="0" lang="en-US" sz="2600" spc="-1" strike="noStrike" u="sng">
                <a:solidFill>
                  <a:srgbClr val="f7b615"/>
                </a:solidFill>
                <a:uFillTx/>
                <a:latin typeface="Constantia"/>
                <a:hlinkClick r:id="rId1"/>
              </a:rPr>
              <a:t>http://www.naxosaudiobooks.com/northamerica/308412.htm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http://edsitement.neh.gov/lesson_images/lesson735/Greek_Phalanx_Icn.jpg"/>
          <p:cNvPicPr/>
          <p:nvPr/>
        </p:nvPicPr>
        <p:blipFill>
          <a:blip r:embed="rId3"/>
          <a:stretch/>
        </p:blipFill>
        <p:spPr>
          <a:xfrm>
            <a:off x="457200" y="4191120"/>
            <a:ext cx="1962000" cy="1904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Greek soldier"/>
          <p:cNvPicPr/>
          <p:nvPr/>
        </p:nvPicPr>
        <p:blipFill>
          <a:blip r:embed="rId4"/>
          <a:stretch/>
        </p:blipFill>
        <p:spPr>
          <a:xfrm>
            <a:off x="3124080" y="4191120"/>
            <a:ext cx="2013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609480" y="1676520"/>
            <a:ext cx="76964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tudy the Persian Wars using “The Persian Wars:  Greece’s Finest Hours” at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Constantia"/>
                <a:hlinkClick r:id="rId2"/>
              </a:rPr>
              <a:t>http://www.socialstudiesforkids.com/subjects/persianwars.htm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http://www.socialstudiesforkids.com/graphics/marathonbattle.jpg"/>
          <p:cNvPicPr/>
          <p:nvPr/>
        </p:nvPicPr>
        <p:blipFill>
          <a:blip r:embed="rId3"/>
          <a:stretch/>
        </p:blipFill>
        <p:spPr>
          <a:xfrm>
            <a:off x="457200" y="3657600"/>
            <a:ext cx="4095720" cy="2620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http://www.socialstudiesforkids.com/graphics/plataea.jpg"/>
          <p:cNvPicPr/>
          <p:nvPr/>
        </p:nvPicPr>
        <p:blipFill>
          <a:blip r:embed="rId4"/>
          <a:stretch/>
        </p:blipFill>
        <p:spPr>
          <a:xfrm>
            <a:off x="4724280" y="3124080"/>
            <a:ext cx="39895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914400" y="1752480"/>
            <a:ext cx="7620120" cy="28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Spartans were a major factor in 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nstantia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Persian War.  Go to history.com to view video on the training of a young warrior, the weapons used by the ancient Spartans, the geography of the battlefield, and much mo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7b615"/>
                </a:solidFill>
                <a:uFillTx/>
                <a:latin typeface="Constantia"/>
                <a:hlinkClick r:id="rId2"/>
              </a:rPr>
              <a:t>http://link.history.com/services/link/bcpid1681730307/bclid1683701822/bctid1646107670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http://www.thechair.gr/wp-content/uploads/2006/09/spartans3.jpg"/>
          <p:cNvPicPr/>
          <p:nvPr/>
        </p:nvPicPr>
        <p:blipFill>
          <a:blip r:embed="rId3"/>
          <a:stretch/>
        </p:blipFill>
        <p:spPr>
          <a:xfrm>
            <a:off x="2819520" y="3429000"/>
            <a:ext cx="54576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ersian ruler (485-465 BC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 to the following website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learn about Xerxes’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rch to Gree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7b615"/>
                </a:solidFill>
                <a:uFillTx/>
                <a:latin typeface="Constantia"/>
                <a:hlinkClick r:id="rId1"/>
              </a:rPr>
              <a:t>http://edsitement.neh.gov/Persian01_flash_page.as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Now, learn more about the War during Xerxes’ reign by going to the following website.  </a:t>
            </a:r>
            <a:r>
              <a:rPr b="0" lang="en-US" sz="2600" spc="-1" strike="noStrike" u="sng">
                <a:solidFill>
                  <a:srgbClr val="f7b615"/>
                </a:solidFill>
                <a:uFillTx/>
                <a:latin typeface="Constantia"/>
                <a:hlinkClick r:id="rId2"/>
              </a:rPr>
              <a:t>http://edsitement.neh.gov/PersiaGreeceWars01.asp#Hellespont</a:t>
            </a:r>
            <a:r>
              <a:rPr b="0" lang="en-US" sz="2600" spc="-1" strike="noStrike">
                <a:solidFill>
                  <a:srgbClr val="b0cac4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Title 2" descr=""/>
          <p:cNvPicPr/>
          <p:nvPr/>
        </p:nvPicPr>
        <p:blipFill>
          <a:blip r:embed="rId3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Mural image of Xerxes"/>
          <p:cNvPicPr/>
          <p:nvPr/>
        </p:nvPicPr>
        <p:blipFill>
          <a:blip r:embed="rId4"/>
          <a:stretch/>
        </p:blipFill>
        <p:spPr>
          <a:xfrm>
            <a:off x="5562720" y="304920"/>
            <a:ext cx="2666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was an engineering marvel for its time.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alled a pontoon bridg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onstructed by lining boats up side-by-sid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nd placing wooden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lanks over top of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e boats to form a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alkway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ry to build the bridge at Hellespont at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Constantia"/>
                <a:hlinkClick r:id="rId1"/>
              </a:rPr>
              <a:t>http://edsitement.neh.gov/PersianBridge_flash_page.asp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dd80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Title 2" descr=""/>
          <p:cNvPicPr/>
          <p:nvPr/>
        </p:nvPicPr>
        <p:blipFill>
          <a:blip r:embed="rId2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Xerxes' boat bridge (click to see larger image)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05720" y="1295280"/>
            <a:ext cx="2190600" cy="4011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Trireme (click to see larger image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81280" y="2819520"/>
            <a:ext cx="300996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Title 1" descr=""/>
          <p:cNvPicPr/>
          <p:nvPr/>
        </p:nvPicPr>
        <p:blipFill>
          <a:blip r:embed="rId1"/>
          <a:stretch/>
        </p:blipFill>
        <p:spPr>
          <a:xfrm>
            <a:off x="255600" y="298440"/>
            <a:ext cx="8437680" cy="7747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"/>
          <p:cNvSpPr/>
          <p:nvPr/>
        </p:nvSpPr>
        <p:spPr>
          <a:xfrm>
            <a:off x="609480" y="990720"/>
            <a:ext cx="7543800" cy="53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ncient Greece, 2008,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University Press Inc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 u="sng">
                <a:solidFill>
                  <a:srgbClr val="f7b615"/>
                </a:solidFill>
                <a:uFillTx/>
                <a:latin typeface="Constantia"/>
                <a:hlinkClick r:id="rId2"/>
              </a:rPr>
              <a:t>http://www.ancientgreece.com/s/War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erodutus, “The Persian War” 2008,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 Naxos Audio Books. </a:t>
            </a:r>
            <a:r>
              <a:rPr b="0" i="1" lang="en-US" sz="1800" spc="-1" strike="noStrike" u="sng">
                <a:solidFill>
                  <a:srgbClr val="f7b615"/>
                </a:solidFill>
                <a:uFillTx/>
                <a:latin typeface="Constantia"/>
                <a:hlinkClick r:id="rId3"/>
              </a:rPr>
              <a:t>http://www.naxosaudiobooks.com/northamerica/308412.htm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ast Stand of the 300 Spartan Boot Camp.  Military History, 2008,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A&amp;E Television.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http://link.history.com/services/link/bcpid1681730307/bclid1683701822/bctid164610767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erisan War,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dsitement  </a:t>
            </a:r>
            <a:r>
              <a:rPr b="0" lang="en-US" sz="1800" spc="-1" strike="noStrike">
                <a:solidFill>
                  <a:srgbClr val="b0cac4"/>
                </a:solidFill>
                <a:latin typeface="Constantia"/>
              </a:rPr>
              <a:t>http://edsitement.neh.gov/Persian01_flash_page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Persian Wars,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Social Studies for Kid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en-US" sz="1800" spc="-1" strike="noStrike">
                <a:solidFill>
                  <a:srgbClr val="b0cac4"/>
                </a:solidFill>
                <a:latin typeface="Constantia"/>
              </a:rPr>
              <a:t>http://www.socialstudiesforkids.com/subjects/persianwars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Xerxes’ Bridge, </a:t>
            </a:r>
            <a:r>
              <a:rPr b="0" i="1" lang="en-US" sz="1800" spc="-1" strike="noStrike">
                <a:solidFill>
                  <a:srgbClr val="ffffff"/>
                </a:solidFill>
                <a:latin typeface="Constantia"/>
              </a:rPr>
              <a:t>Edsitement. 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http://edsitement.neh.gov/PersianBridge_flash_page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990720" y="1676520"/>
            <a:ext cx="7238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ocial Studies – 9</a:t>
            </a:r>
            <a:r>
              <a:rPr b="0" lang="en-US" sz="1800" spc="-1" strike="noStrike" u="sng" baseline="30000">
                <a:solidFill>
                  <a:srgbClr val="ffffff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gr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.O.9.1.3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the causes of conflict and propose resolu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.O.9.5.6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e and contrast the causes and effects of the rise and decline of ancient civilizations (e.g., the river civilizations, classic Greek and  Roma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.O.9.5.8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cribe the location, movement, unique contributions and characteristics of Arab/Islamic socie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4:51:13Z</dcterms:created>
  <dc:creator>CCS</dc:creator>
  <dc:description/>
  <dc:language>en-US</dc:language>
  <cp:lastModifiedBy>ccsguest</cp:lastModifiedBy>
  <dcterms:modified xsi:type="dcterms:W3CDTF">2008-11-06T21:25:25Z</dcterms:modified>
  <cp:revision>15</cp:revision>
  <dc:subject/>
  <dc:title>Persian Wars</dc:title>
</cp:coreProperties>
</file>